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0.jpeg" ContentType="image/jpe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C1FF-3780-4801-B123-CCA5B9F2A2F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www.accc.gov.au/content/index.phtml/itemId/1039349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www.techsupportalert.com/SecWiz" TargetMode="External"/><Relationship Id="rId2" Type="http://schemas.openxmlformats.org/officeDocument/2006/relationships/slide" Target="../slides/slide9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ACMA: Australian Communications and Media Authority. Link to report is on hand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an’t find any later data but not surprised.  Many peoples PC’s that I fix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Out of date or no antivirus (very few with viruses fortunatel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Very few had any malware detection, and had a fair bit on the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ome had the firewall turned o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Survey: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Who understand what a firewall do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5305-2469-4DC6-AA40-5DF9A576495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ow to get your modems IP address: Check doco.  Or cmd; ipconfig; setting under ‘Default Gateway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en save as a favourite / book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efault logon and password usually Ad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Public access points – as per slide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855D-765B-45C2-88CE-D80138A3FD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o not call register only stops Australian firms.  Won’t stop calls from overse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hildren are very computer savvy.  They will quickly go to sites, download games etc. These can install malware, unwanted search systems and toolbars.  At worst are vir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ake sure that your account has a password and that children have their own restricted acco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andout with some good advice and plenty of links is at www.tinyurl.com/bfs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35BD-7484-4635-ADFF-416F96C0DC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ACMA: Australian Communications and Media Authority. Link to report is on hand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an’t find any later data but not surprised.  Many peoples PC’s that I fix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Out of date or no antivirus (very few with viruses fortunatel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Very few had any malware detection, and had a fair bit on the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ome had the firewall turned o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Survey: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Who understand what a firewall do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973D-CAC7-4022-A5E3-68548D10BD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CAMwatch – division of ACCC (Australian Competition and Consumer Commiss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Actual losses would be higher as ACCC is only one of several agenc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88% reported no financial lo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ost common loss in 2010 was $1000 to $99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ass marketed advance fee fraud is the highest reported scam &gt; ½ the reports (consist of advance fee/up-front payment, lottery and sweepstakes, unexpected prizes, and dating and romance sca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omputer hacking was second (23% of reports) largely due to scam phone calls requesting remote access to ‘fix’ technical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Reported scams most common in the 25-54 age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ownload report: </a:t>
            </a:r>
            <a:r>
              <a:rPr b="0" lang="en-A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accc.gov.au/content/index.phtml/itemId/1039349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 VERY good rea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SURVEY: 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ow many people subscribe to the SCAMwatch newslet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C36A-F36C-4FC7-A825-55AB5E209AE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Phone – would you believe a stranger who said they worked for xxxxx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redit Card – there are card readers out t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Front door – ‘we’re in the neighbourhood and noticed a couple of cracked tiles…..’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treet - ‘We are collecting on behalf of sob, sob s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Relatives – Why wait till she/he has gone.  I need it now. Trust me with the password.  I’ll look after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Internet is just another communication channel.  Not to be fea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2E71-5C68-4D55-80ED-4CB1E61155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an order up to 100.  Now smaller. Link is on the hand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SURVEY: 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ow many people have read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ownload link is on hand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0FE0-D20A-43E2-8D64-EE31F06DBEA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ommon sense, too good to be true; something for noth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y name is Bill Gates. Disprove it pleas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ever tell important passwords to others, including rel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hen filling in forms only provide the minimum required.  Fields usually have an aster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iscuss your proposed deal with others. Shop a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leep on it. Stop and thin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Get and distribute Scamwatch newsletters; read Black Book and distribu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A52A-D657-4FE3-8B00-F9AD4501716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SE, AVG, Avast, Avira  all free and work f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 u="sng">
                <a:solidFill>
                  <a:srgbClr val="000000"/>
                </a:solidFill>
                <a:uFillTx/>
                <a:latin typeface="Calibri"/>
              </a:rPr>
              <a:t>Survey: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Who uses one of the free antivirus programs?  Any comm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 u="sng">
                <a:solidFill>
                  <a:srgbClr val="000000"/>
                </a:solidFill>
                <a:uFillTx/>
                <a:latin typeface="Calibri"/>
              </a:rPr>
              <a:t>Survey: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Who can truthfully say their PC is fully patch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Link Checker – some antivirus have built in – eg AVG.  I use an addin called Web Of Trust (WO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ommon sense approach to protection is well explained on the hand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E283-3C41-43A7-B1BE-95A7148CF63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Easily re-creatable rather than commit to mem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ever a recognisable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ix of characters and c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Survey: How many people change their passwor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Jack and Jill went up the h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ary had a little lamb….. Upper case M for Mary, 1 substitutes for l, 5 for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John, Mary, tom, catherine and noel live at post code 2756. Note upper case for pa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Person a’s birthday is 4</a:t>
            </a:r>
            <a:r>
              <a:rPr b="0" lang="en-AU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December, AND b’s is 13</a:t>
            </a:r>
            <a:r>
              <a:rPr b="0" lang="en-AU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M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9BAB-A625-4FFB-A63F-F5C9CF3C1E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Link Checkers are WOT, AV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hat’s on the page and where the link ACTUALLY goes are totally different. Sometimes the status bar needs turning 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Question: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Who knows how to kill off a process? (Ctrl+Alt+Esc, Process tab)  Or how to shut power off a laptop? (Hold power button in for 7-10 se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If necessary, Appshare to sh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oax emails: eg “…It is a virus that opens an Olympic torch that burns the whole hard disc…”. Just highlight a key phrase eg “opens an Olympic torch”. Reliable checks sites are snopes.com, hoax-slayer.com; urbanlegends.about.com; truthorfiction.com; sopho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ww.museumofhoaxes.com is worth a brow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Gizmos security wizard: </a:t>
            </a:r>
            <a:r>
              <a:rPr b="0" lang="en-A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echsupportalert.com/SecWiz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These are listed on the hand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8BAB-B894-4882-AF39-2115843F17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126D-865D-43F1-903B-CC70868AC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53EE-70CF-445F-BAF8-8D6C2D57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044E-D065-47B9-A0F7-C92956F01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8DDA-17F4-46ED-9983-AB9B337AB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BA83-1D86-46EF-895C-765CC774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60F4-FF8D-4953-BF75-64CAC04C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25BE-CF19-411C-BE96-58D19422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5A4F-5066-4FD6-A87F-BF17A68E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B164-D3AB-465C-9B27-62CFBD77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C154-B6CE-4AC3-97C0-AD375EAF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35A6-3EBF-4056-AD4B-D575F6FF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E37D-BD30-45DF-B1FF-C80C28E9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966B-631D-4CD9-A24E-AEC7020D1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0000"/>
                </a:solidFill>
                <a:latin typeface="Calibri"/>
              </a:rPr>
              <a:t>Cyber Security</a:t>
            </a:r>
            <a:br>
              <a:rPr sz="3200"/>
            </a:b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Woodrising Neighbourhood Cen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E:\KHSaveFiles\Seniors Computer Club\Training\Hunter Community College\KH TSS Modules\TSS1.1 Cybersafety\cybersafety.jpg"/>
          <p:cNvPicPr/>
          <p:nvPr/>
        </p:nvPicPr>
        <p:blipFill>
          <a:blip r:embed="rId2"/>
          <a:stretch/>
        </p:blipFill>
        <p:spPr>
          <a:xfrm>
            <a:off x="914400" y="2971800"/>
            <a:ext cx="738828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Wi-Fi / Caf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Home Wi-F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Secure your home Wi-Fi access poi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Set an Admin account passwor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Consider MAC address filter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Public access points (internet cafes / other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Avoid financial transa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Make sure to log out of everyth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Untick ‘Remember Me’; Don’t save passwo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Ensure https: for sensitive inf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C:\Users\Keith\AppData\Local\Microsoft\Windows\Temporary Internet Files\Content.IE5\8WDX1VGE\MC900389832[1].wmf"/>
          <p:cNvPicPr/>
          <p:nvPr/>
        </p:nvPicPr>
        <p:blipFill>
          <a:blip r:embed="rId2"/>
          <a:stretch/>
        </p:blipFill>
        <p:spPr>
          <a:xfrm flipH="1">
            <a:off x="7219440" y="457200"/>
            <a:ext cx="199548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Sund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62120" y="1752120"/>
            <a:ext cx="80769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o Not Call Regi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hildren using Nans / Pops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uperv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se a restricted account with passw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andout at </a:t>
            </a: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www.tinyurl.com/BFS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Good security tips from Gizmos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inks to several other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C:\Program Files (x86)\Microsoft Office XP\Media\CntCD1\ClipArt2\j0215007.wmf"/>
          <p:cNvPicPr/>
          <p:nvPr/>
        </p:nvPicPr>
        <p:blipFill>
          <a:blip r:embed="rId2"/>
          <a:stretch/>
        </p:blipFill>
        <p:spPr>
          <a:xfrm>
            <a:off x="6727680" y="304920"/>
            <a:ext cx="207648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080880" y="1168200"/>
            <a:ext cx="35053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Ide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Sugges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C:\Program Files (x86)\Microsoft Office XP\Media\CntCD1\ClipArt6\j0293498.wmf"/>
          <p:cNvPicPr/>
          <p:nvPr/>
        </p:nvPicPr>
        <p:blipFill>
          <a:blip r:embed="rId2"/>
          <a:stretch/>
        </p:blipFill>
        <p:spPr>
          <a:xfrm>
            <a:off x="609480" y="2209680"/>
            <a:ext cx="2471760" cy="2022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:\Program Files (x86)\Microsoft Office XP\Media\CntCD1\ClipArt5\j0282178.wmf"/>
          <p:cNvPicPr/>
          <p:nvPr/>
        </p:nvPicPr>
        <p:blipFill>
          <a:blip r:embed="rId3"/>
          <a:stretch/>
        </p:blipFill>
        <p:spPr>
          <a:xfrm>
            <a:off x="7238880" y="2209680"/>
            <a:ext cx="1524240" cy="1757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C:\Users\Keith\AppData\Local\Microsoft\Windows\Temporary Internet Files\Content.IE5\1NK5L1KL\MC900059396[1].wmf"/>
          <p:cNvPicPr/>
          <p:nvPr/>
        </p:nvPicPr>
        <p:blipFill>
          <a:blip r:embed="rId4"/>
          <a:stretch/>
        </p:blipFill>
        <p:spPr>
          <a:xfrm>
            <a:off x="3809880" y="4232160"/>
            <a:ext cx="183672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Of Concer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62120" y="13395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2009 survey of Australian consumers by Australian Communications and Media Authority (ACMA)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Only 49% of respondents had installed anti - virus softwar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Only 21% of respondents </a:t>
            </a:r>
            <a:br>
              <a:rPr sz="3600"/>
            </a:b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had firewall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" descr="C:\Users\Keith\AppData\Local\Microsoft\Windows\Temporary Internet Files\Content.IE5\H1VX6ARK\MC900141197[1].wmf"/>
          <p:cNvPicPr/>
          <p:nvPr/>
        </p:nvPicPr>
        <p:blipFill>
          <a:blip r:embed="rId2"/>
          <a:stretch/>
        </p:blipFill>
        <p:spPr>
          <a:xfrm>
            <a:off x="6095880" y="4280040"/>
            <a:ext cx="302904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0000"/>
                </a:solidFill>
                <a:latin typeface="Calibri"/>
              </a:rPr>
              <a:t>We’re in the Wrong Business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38080" y="15998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2011 SCAMwatch Repor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83,150 contacts. Double 20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$85.6 m reported ($63.4m, 2010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$: advance fee; winnings; romanc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Most common loss $100 - $49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Increased high volume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52% by phone (33%, 2010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C:\Users\Keith\AppData\Local\Microsoft\Windows\Temporary Internet Files\Content.IE5\1NK5L1KL\MC900287591[1].wmf"/>
          <p:cNvPicPr/>
          <p:nvPr/>
        </p:nvPicPr>
        <p:blipFill>
          <a:blip r:embed="rId2"/>
          <a:stretch/>
        </p:blipFill>
        <p:spPr>
          <a:xfrm flipH="1">
            <a:off x="6857640" y="4129200"/>
            <a:ext cx="213372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Allaying Fea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61760" y="15235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Scammers come in all for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ront Do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tr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l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Internet is just another avenu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Prevention better than cur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C:\Users\Keith\AppData\Local\Microsoft\Windows\Temporary Internet Files\Content.IE5\T5X79AWJ\MC900355387[1].wmf"/>
          <p:cNvPicPr/>
          <p:nvPr/>
        </p:nvPicPr>
        <p:blipFill>
          <a:blip r:embed="rId2"/>
          <a:stretch/>
        </p:blipFill>
        <p:spPr>
          <a:xfrm>
            <a:off x="6324480" y="2057400"/>
            <a:ext cx="2455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Little Black Book of Sc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61760" y="15235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Australian Competition and Consumer Commis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Download pd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Order up to 100 cop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Great handou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Stress to </a:t>
            </a: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READ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5738760" y="2335320"/>
            <a:ext cx="30891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Simple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61760" y="1295280"/>
            <a:ext cx="792468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f its too good to be true then it probably 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omething for Nothing – not likely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do you know who they a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EVER divulge pass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nly provide bare minimum inf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iscuss with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top and Thi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e Cyber &amp; Scam Savv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C:\Users\Keith\AppData\Local\Microsoft\Windows\Temporary Internet Files\Content.IE5\1NK5L1KL\MC900379211[1].wmf"/>
          <p:cNvPicPr/>
          <p:nvPr/>
        </p:nvPicPr>
        <p:blipFill>
          <a:blip r:embed="rId2"/>
          <a:stretch/>
        </p:blipFill>
        <p:spPr>
          <a:xfrm>
            <a:off x="5867280" y="4745160"/>
            <a:ext cx="304812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Keith’s Basic Preca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61760" y="15235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ONE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Antivirus program. Free ones O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rewall On. Windows one is f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indows fully patch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un full virus sc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un malwarebytes occasion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ink Checker (WO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ave good pass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COMMON SEN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Keith\AppData\Local\Microsoft\Windows\Temporary Internet Files\Content.IE5\D1U2VAK6\MC900290341[1].wmf"/>
          <p:cNvPicPr/>
          <p:nvPr/>
        </p:nvPicPr>
        <p:blipFill>
          <a:blip r:embed="rId2"/>
          <a:stretch/>
        </p:blipFill>
        <p:spPr>
          <a:xfrm>
            <a:off x="6588000" y="2209680"/>
            <a:ext cx="228600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Password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61760" y="1142640"/>
            <a:ext cx="792468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ake easily re-crea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ever a dictionary w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ix UPPER, lower, $%^#, 278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ore characters the bet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hange – how oft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J&amp;Jwu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ha11ifwwa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JMtcn@275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0412&amp;b130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C:\Users\Keith\AppData\Local\Microsoft\Windows\Temporary Internet Files\Content.IE5\1NK5L1KL\MC900390834[1].wmf"/>
          <p:cNvPicPr/>
          <p:nvPr/>
        </p:nvPicPr>
        <p:blipFill>
          <a:blip r:embed="rId2"/>
          <a:stretch/>
        </p:blipFill>
        <p:spPr>
          <a:xfrm>
            <a:off x="5638680" y="3446640"/>
            <a:ext cx="281952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9" descr="C:\Users\Keith\AppData\Local\Microsoft\Windows\Temporary Internet Files\Content.IE5\8WDX1VGE\MC900439344[1].jpg"/>
          <p:cNvPicPr/>
          <p:nvPr/>
        </p:nvPicPr>
        <p:blipFill>
          <a:blip r:embed="rId1"/>
          <a:srcRect l="21845" t="0" r="16983" b="0"/>
          <a:stretch/>
        </p:blipFill>
        <p:spPr>
          <a:xfrm>
            <a:off x="6673680" y="1219320"/>
            <a:ext cx="2470320" cy="40384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Safe Surfing Ti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752480"/>
            <a:ext cx="693432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se a Link Chec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Know where the link is going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EVER click OK or install those alarming ‘you have been infected’ popups. Know how to kill off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cognise hoax ema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Gizmos security wiz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Keith</dc:creator>
  <dc:description/>
  <dc:language>en-US</dc:language>
  <cp:lastModifiedBy>Keith</cp:lastModifiedBy>
  <dcterms:modified xsi:type="dcterms:W3CDTF">2014-01-26T08:54:51Z</dcterms:modified>
  <cp:revision>130</cp:revision>
  <dc:subject/>
  <dc:title>Where To Start</dc:title>
</cp:coreProperties>
</file>